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894E-04A6-428A-8B7B-0ACEFC0D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D29-0E6D-42BD-BF1E-148B3AE4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1D80-8679-49BF-800F-0DEA8E86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ECAD-0437-4E55-8F94-BC3FCDE7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20EA-BBA0-442C-B6F9-1FD0633B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5465-71EE-404F-A3BB-D3AA8DAC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A605-5347-43ED-B310-55DD489E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63AC-8795-433E-9873-39D896AC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3C0F-0706-4BFB-99B3-C7F0D65A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BC9A-A75D-4637-95E5-B2983C89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FE42-6100-4872-99B6-BF2BF5E5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3181-A566-40DA-9555-4E99C9FB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A34D-B3D2-43CE-AC2A-604A8CF4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0D71-664A-4B24-B0A4-BBE0CE4F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9697-1E4C-454A-864B-9DB149E6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D0E5-E799-4720-8189-8FD960CE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0BE2-8A28-4A4D-AB45-AF6AA9F0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F9D1A-7F80-4D9A-BF92-1C10FBDE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71F01-B53F-4EAB-897B-F026EC5E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54217-F316-4465-8AF5-692B1D06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F2419-9021-4506-8A24-AACA519E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608E4-CC19-4FA0-9A43-EA72272F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6B2D-BC46-43CE-8257-BF769316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33A78-D675-4C3D-94DB-4A249431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52E95-A008-4110-B28D-D4BB0A32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1125D-CA8A-428D-8766-4C39229B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9F04A-ADA1-44B1-9FED-1CE2711C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1A32C-FFE5-45D3-99D9-621181D6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173D4-B62C-4577-BA1F-654F1C93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1DD5C-CB46-4DD3-A7BB-32A79898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ABB59-46FB-4C9F-82D8-447495E1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D07AF-BA85-4CBB-8C49-8A0834F8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19DB1-456C-484E-BD08-8A1AF876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050D-0569-4245-8E02-19D9BEC4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E38F9-954A-4935-BB6A-90242115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6103A-1524-46E6-849A-76FFC443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0C531-8F85-425D-A7FF-9D192418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64952-17A9-44B7-B133-84E4BCCA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86F3F-946D-4DED-90AA-2E0CCA17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7956E-A200-4C5F-803E-D7507C43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8B257-4C34-4BCA-BF1D-5CDDB7CA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783E1-27C4-4E1A-868F-CDA4C793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E2864-D547-4AEB-9305-14BA2C43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7AA6-4EAC-4D0E-B8AE-B6DDCF36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52C4-23C8-482D-AA16-B12C86FC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AE52-EB6A-4269-A853-6DAAE864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FB76-69B2-424D-B9EF-471A6242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0D87-3E30-4B69-8FFE-25CAF19B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EBCA-CC9A-4EEA-9065-5FA4A975ED0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7B1A-0751-4CC5-83BD-919A78A77FD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D474-28E4-4E9F-8530-0464EF57ECB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237A-48A3-41C9-BDC5-F1A8D2D3C02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atcan.ca/english/Subjects/tabcon.ht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Chapter 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MR110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Characteristics of Organizational Buyers (3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buying objectives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of organizations are ver rational and specific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normal objective is to reduce cost while maximizing prof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haracteristics of Organizational Buyers (4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Buying Criteria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is very well known and adhered to by organiza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Operates within the minimum cost/maximum revenue framework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Common criteria include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delivery tim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technical capabil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warranti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past performanc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production facilities &amp; capac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haracteristics of Organizational Buyers (5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Size of the order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that organizational buyers make is usually lar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Walmart buys 5000 pairs of shoes from Terra Shoes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You (a consumer) buy only one pair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haracteristics of Organizational Buyers (6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Buyer and Seller usually are involved in extensive negotiations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before doing a de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re must be a good relationship between the two part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fter there is a reciprocal relationship where a buyer buys from a supplier and in return sells to that supplier.  This is known a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Reciprocity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haracteristics of Organizational Buyers (7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ften times in large organizations there is a specific department responsible for all of the organizations purchases.  This is the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Buying Cent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Roles in the Buying Centr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onstantia"/>
              </a:rPr>
              <a:t>Users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- use the product being purchase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onstantia"/>
              </a:rPr>
              <a:t>Influencers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 - affect the buying decision in some wa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onstantia"/>
              </a:rPr>
              <a:t>Buyer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s -have the formal authority to buy products on behalf of the organizatio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onstantia"/>
              </a:rPr>
              <a:t>Deciders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 - formal &amp; informal authority to approve purchas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onstantia"/>
              </a:rPr>
              <a:t>Gatekeepers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 - may have no formal authority but control the flow of informatio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4617b"/>
                </a:solidFill>
                <a:latin typeface="Calibri"/>
              </a:rPr>
              <a:t>Stages on the Organizational Buying Decis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ote that the stages in the org. buying decision are the same as the consumer purchase decis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only difference is in the type and degree of analysis of information in the decision making proces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Basic Types of Buying Situ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traight rebu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ame product repurchased from a existing supplier - little effort in decision making - often an automatic decision - very limited risk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Modifyed rebu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 slight modification is made to what otherwise would be a standard rebuy.  More analysis involved in the decision - medium risk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New bu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 first time buy - a great deal of analysis involved in the decision - a great deal of risk to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4617b"/>
                </a:solidFill>
                <a:latin typeface="Calibri"/>
              </a:rPr>
              <a:t>Keys to Marketing more Effectively towards Organizational Buyer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Understand the buyers/sellers needs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and meet the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Get on the bidders list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so that you are eligible to sell to an organiza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Contact the right people in the buying center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who have the authority to buy from you or the power to influence the decision to buy from you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rovide a quality product and service - keep your promises - </a:t>
            </a: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Maximize value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to the custome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Video(s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hallanger: An industrial Romance - NFB, 198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hallanger promo video - Bombardier Inc., 199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Questions: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How did Canadair market the Callanger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How did the Challanger offer value to its customers/owners.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4617b"/>
                </a:solidFill>
                <a:latin typeface="Calibri"/>
              </a:rPr>
              <a:t>Organizational Markets Defin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Organizational Markets ar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Organizations that buy products and servic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onstantia"/>
              </a:rPr>
              <a:t>for either their own use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onstantia"/>
              </a:rPr>
              <a:t>or to use in a product that they make;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onstantia"/>
              </a:rPr>
              <a:t>or to resell to individuals, or other organizations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onstantia"/>
              </a:rPr>
              <a:t>or to provide a public good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4617b"/>
                </a:solidFill>
                <a:latin typeface="Calibri"/>
              </a:rPr>
              <a:t>The Three Organizational Markets (1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Industrial Mark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onstantia"/>
              </a:rPr>
              <a:t>These organizations buy the product and in some way reprocess it before reselling it to the next buyer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nstantia"/>
              </a:rPr>
              <a:t>E.g. Stelco sells rolled steel to GM, GM stamps it into a body part for the Venture minivan, which is in-turn sold to you through your GM deal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4617b"/>
                </a:solidFill>
                <a:latin typeface="Calibri"/>
              </a:rPr>
              <a:t>The Three Organizational Markets (2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Reseller Mark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onstantia"/>
              </a:rPr>
              <a:t>The organization buys the product and then resells it relatively unchanged. (no reprocessing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nstantia"/>
              </a:rPr>
              <a:t>E.g. Sobey’s will buy milk from Central Dairies.  Sobey’s resells the milk to custom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4617b"/>
                </a:solidFill>
                <a:latin typeface="Calibri"/>
              </a:rPr>
              <a:t>The Three Organizational Markets (3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Government Mark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onstantia"/>
              </a:rPr>
              <a:t>Federal, Provincial and Municipal governments purchase products and services and use them for their constituent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nstantia"/>
              </a:rPr>
              <a:t>E.g. The town of Buchans buys a new Cat 930 loader.  (The Town taxpayers will be paying for this unit). That machine is fitted with a snowblade and used to plough the towns roads (a public service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Getting Industrial Buyers and Sellers Together - The NAICS (SIC Code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200320"/>
            <a:ext cx="82296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ee </a:t>
            </a:r>
            <a:r>
              <a:rPr b="0" lang="en-GB" sz="20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statcan.ca/english/Subjects/Standard/tabcon.ht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he Standard Industrial Classification system, now updated and called NAICS (North American Industrial Classification System), is designed to connect buyers and sell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Uses a Coding system so that  a particular type of business gets a particular cod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Facilitates buyer seller recognition and communic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The limitations of the Industrial Code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wo key limita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de is not issued to a business if they are the only one of that type of business in a given region.  This company is then not coded and will not reep the intended benefits of the syst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nly one code is issued per business.  If your business is in more than one business only one of the businesses types are reflected in the cod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Characteristics of Organizational Buyers (1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Demand for their products by other organizations is derived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from consumer demand for end products. E.g Stelco will not sell a much steel to GM if consumer demand for cars drop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Characteristics of Organizational Buyers (2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re are fewer organizational buyers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than there are end consumer buy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.g.  There are 30 million people in Canada -- all potential buyers.  However there are fewer organizations in the marketplace -- fewer organizational buy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6T17:15:48Z</dcterms:created>
  <dc:creator>Debbie Vincent</dc:creator>
  <dc:description/>
  <dc:language>en-US</dc:language>
  <cp:lastModifiedBy>paul.tilley</cp:lastModifiedBy>
  <dcterms:modified xsi:type="dcterms:W3CDTF">2011-03-24T13:35:07Z</dcterms:modified>
  <cp:revision>8</cp:revision>
  <dc:subject/>
  <dc:title>Organizational Marke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